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7185-620F-483D-A613-497D45F5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0A51-7765-4C3D-AF01-82BCDAC1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07DF-C904-453B-8C9B-719AA309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4BF5-1DBD-4378-B4F0-EBC65819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6099-5DD7-4145-9012-C57FAB08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0FA5-9A40-4DD2-98FB-32B0A85A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28EC-A321-4B14-AD8C-1E08E5DA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5493-367A-4782-91FE-A96B7D1A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B43E-5BBB-45D3-9E2A-8F5C01D9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F57A-EF8B-45A5-9867-25119604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B9AF-94BE-4430-88D4-927072BE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51E0-1A04-4C81-B7FD-7586452E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07EA-3AA7-4782-97C5-E09E9961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2DE8-F39E-4593-A9C9-92A5EF3C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E66F-026F-4EB8-9D8F-BF5CC1FE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FC3B-0130-470B-8EF8-F6B03419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08A1-19E1-49CB-8A39-134EFD3B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0D136-E3D4-4666-AD77-01E883B5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7909B-0542-42C9-AE6B-ED0FCE78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67B70-2C0E-4F44-BDB7-32F88704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4C790-1C7E-4489-9AA1-24D4EB5D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60070-5A54-4138-A4A3-5B89CB63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1F5A-B056-40B3-A66E-A2479F61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1A5F1-DCFA-4946-8AE6-A3D06112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8F425-561D-45B3-88E8-F96DCBA8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8EE85-21CD-44D3-BCE9-029679F7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D745A-81BB-43D8-866A-C1F0204A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155B1-8A5B-4FFA-8D0A-160DB525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01401-1AB0-407E-94CC-E25960E4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E85FE-A9EE-4026-8FB1-B2DF8C84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3570CB-33DE-4F08-AC2B-1CD4C5F8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355653-A38E-404E-BB10-D6B36DA5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205E0A-465E-4977-9280-CF6EFD0F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6AB6-5829-44B2-B13C-53B3B45C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544057-3CA6-4128-9E24-6DBC1B42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EAA83A-39EC-415B-90AD-E73A1F88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E85FCB-5D7A-48E4-AB1F-D0602924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F8DAB4-68CC-4719-96FA-6188ED2D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5C4AD0-4182-4D16-8D8D-D0F79F88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70EB0D-887B-4B17-BBB4-6C249DE7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F253FD-0F2C-4FFC-91D8-C237D36C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F975C0-4160-41C7-BD66-A12F2425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EA4FE8-6BAD-4BBF-8AF0-4A8D98D7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66C27E-FD54-4971-B67E-8BE20647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9141-476E-492A-BE14-61F17B42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2EEFEE-6110-415F-AE79-8E080798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805A65-7E28-48C5-AD15-C85F39AF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CE3DA8-E1A8-434D-8B83-B6627CBA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D51FB0-133A-4EA1-9DD7-78F8B3C3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2E469E-F04A-40DC-ACB4-7CC331D0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6E65AD-6A91-4589-893D-D12B1548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4C3CE9-BDD0-477D-851E-50AB1C14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C99938-8D60-46C7-971A-BE895BB4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70BF14-1F0B-4210-AA78-2024AE97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AABB4C-1930-4B3D-902A-33E00EE6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4D14-1B01-4C8B-8C88-64B6825D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AB0300-7F2F-4DB5-BED0-57D926E4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B2FE8F-C146-4401-9F5B-DA303B3E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80EB1B-78A7-4B45-931A-F1022F29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87EB4F-E26E-46F3-BAA8-699B41A7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FA816E-5334-4973-999B-F506A74B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CD6EDF-B024-4F52-ABB4-EA2F0EFF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1358CE-6AEC-4217-9A23-F3B633E4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C5E90E-7173-4C07-BAD3-90B24174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79DA0A-2F9F-4C74-88AC-BFA0F0A5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1EE768-8E2C-4CF7-8752-3876FCFA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7C91-7726-45AD-9CEC-DCE7CB01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2E0B53-32CE-46EA-9D57-491C1151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25AA6B-B712-4F6F-AC52-7679ABE5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64F33C-656D-4816-8BED-325B6C9C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0193-F229-42AC-8173-0FCDCFAB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9668-2482-4DF6-94AA-B879929A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FA90-C137-49EC-B929-FD7328CD7350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C586-9113-42E2-B9DC-B088991944E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3264-8EEC-4188-99D1-7467470409A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CEC0-D871-46B7-9671-A43404F00AD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AF23-168A-4FB6-B5B8-5AAC2948ECD2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CCDA-3C91-4062-A0FF-CC72603D472F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solidFill>
            <a:srgbClr val="85dfd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ИКРОПРОЦЕССОРЫ И МИКРОКОНТРОЛЛЕРЫ</a:t>
            </a:r>
            <a:br>
              <a:rPr sz="22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600"/>
            </a:br>
            <a:endParaRPr b="0" lang="en-US" sz="16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8000" y="1341000"/>
            <a:ext cx="7467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Arial"/>
              </a:rPr>
              <a:t>ВВЕ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известно, процессор является основным вычислительным блоком компьютера, в наибольшей степени определяющим его мощь. Процессор является устройством, исполняющим программу - последовательность команд (инструкций), задуманную программистом и оформленную в виде модуля программного кода. Чтобы понять, что делает процессор, рассмотрим его в окружении системных компонентов IBM PC-совместимого компьютера. Этой компьютерной архитектурой, естественно, не ограничивается сфера применения процессоров. Всем известный IBM PC-совместимый компьютер представляет собой реализацию так называемой фон-неймановской архитектуры вычислительных машин. Эта архитектура была представлена Джоном фон-Нейманом еще в 1945 году и имеет следующие основные признаки. Машина состоит из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лока управления, арифметико-логического устройст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АЛУ)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амяти и устройств ввода/вывода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ей реализуется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нцепция хранимой программы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граммы и данные хранятся в одной и той же памяти. Выполняемые действия определяются блоком управления и АЛУ, которые вместе являются основой центрального процесс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" descr="D:\vvsu.gif"/>
          <p:cNvPicPr/>
          <p:nvPr/>
        </p:nvPicPr>
        <p:blipFill>
          <a:blip r:embed="rId1"/>
          <a:stretch/>
        </p:blipFill>
        <p:spPr>
          <a:xfrm>
            <a:off x="142920" y="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Ц микропроцессора i8080 предусматривает возможность обмена как в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инхронн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ак и в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синхронн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ежиме. Если в составе МПС использованы только "быстрые" устройства, т.е. такие, которые могут работать с тактовой частотой МП, то передача информации в МЦ осуществляется в синхронном режиме. В этом случае на вход READY МП подается константа "1" и после такта T2 начинается такт T3. При работе с "медленными" устройствами, быстродействие которых не позволяет переключаться с частотой тактового генератора МП, необходимо "растянуть" во времени МЦ, реализовав асинхронный принцип обмена. Для этого в начале МЦ обмена с "медленными" устройствами на входе READY формируется уровень логического нуля. В такте T2 МП анализирует состояние READY, и если READY = 0, то МП после T2 переходит не к T3, а к такту ожидания Tw, который может длиться произвольное число периодов тактового генератора. Переход к T3 осуществляется по фазе Ф1, если в предыдущей Ф2 READY установился в "1". С помощью входа READY можно не только согласовывать работу МП с устройствами различного быстродействия, но и реализовывать пошаговый и потактовый режимы работы М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МЦ"/>
          <p:cNvPicPr/>
          <p:nvPr/>
        </p:nvPicPr>
        <p:blipFill>
          <a:blip r:embed="rId1"/>
          <a:stretch/>
        </p:blipFill>
        <p:spPr>
          <a:xfrm>
            <a:off x="154080" y="357120"/>
            <a:ext cx="7775640" cy="4786560"/>
          </a:xfrm>
          <a:prstGeom prst="rect">
            <a:avLst/>
          </a:prstGeom>
          <a:ln w="0">
            <a:noFill/>
          </a:ln>
        </p:spPr>
      </p:pic>
      <p:sp>
        <p:nvSpPr>
          <p:cNvPr id="322" name="TextBox 3"/>
          <p:cNvSpPr/>
          <p:nvPr/>
        </p:nvSpPr>
        <p:spPr>
          <a:xfrm>
            <a:off x="2343600" y="5357880"/>
            <a:ext cx="443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9.2. Временная диаграмма МЦ "ПРИЕМ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 образом, в машинном цикле выполняются следующие действ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ча адрес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ча информации о начатом МЦ (PSW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ализ значения входных сигнал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необходимости - ожидание сигнала READY =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ем/выдача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необходимости - внутренняя обработка/пересылка дан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еализации одного МЦ процессор мож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памяти байт команд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памяти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УВв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стека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вектор прерыва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ть в память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ть в стек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ть на УВыв байт дан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сительно выходных сигналов МП все перечисленные выше разновидности МЦ отличаются только направлением передачи данных: в МП - циклы 1..5 (ПРИЕМ), из МП - циклы 6..8 (ВЫДАЧ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МЦ2"/>
          <p:cNvPicPr/>
          <p:nvPr/>
        </p:nvPicPr>
        <p:blipFill>
          <a:blip r:embed="rId1"/>
          <a:stretch/>
        </p:blipFill>
        <p:spPr>
          <a:xfrm>
            <a:off x="285840" y="428760"/>
            <a:ext cx="7667640" cy="47862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3"/>
          <p:cNvSpPr/>
          <p:nvPr/>
        </p:nvSpPr>
        <p:spPr>
          <a:xfrm>
            <a:off x="2235600" y="5500800"/>
            <a:ext cx="456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9.3. Временная диаграмма МЦ "ВЫДАЧА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фицит внешних выводов МП не позволяет выводить во внешний интерфейс достаточный для эффективного функционирования объем управляющей информации. Для выдачи более полной информации о состоянии МП в текущем МЦ используется мультиплексирование шины данных. В начале каждого МЦ на линии шины данных D[7:0] выдается байт дополнительной управляющей информации (т.н. PSW), разряды которого имеют следующее назнач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0 - подтверждение прерыва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1 - запись (в ЗУ) или вывод (на УВыв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2 - обращение в стек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3 - подтверждение останов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4 - вывод (на УВыв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5 - M1 (считывание из памяти первого байта команды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6 - ввод (из УВв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7 - чтение (из ЗУ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личие на D[7:0] управляющей информации отмечается специальным выходным сигналом SY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йт управляющей информации присутствует на шине данных (ШД) один такт, а использоваться может в течение всего МЦ. Поэтому в МПС, использующих информацию PSW, предусматривается специальный, внешний по отношению к МП, регистр-защелка для фиксации PS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льный процессор выбирает и исполняет команды из памяти последовательно, адрес очередной команды задается "счетчиком адреса" в блоке управления. Этот принцип исполнения называется последовательной передачей управления. Данные, с которыми работает программа, могут включать переменные - именованные области памяти, в которых сохраняются значения с целью дальнейшего использования в программе. Фон-неймановская архитектура - не единственный вариант построения ЭВМ, есть и другие, которые не соответствуют указанным принципам (например, потоковые машины). Однако подавляющее большинство современных компьютеров основано именно на этих принципах, включая и сложные многопроцессорные комплексы, которые можно рассматривать как объединение фон-неймановских машин. Конечно же, за более чем полувековую историю ЭВМ классическая архитектура прошла длинный путь развития. В общем смысле под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рхитектуро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цессора понимается его программная модель, то есть программно-видимые свойства. Под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икроархитектуро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нимается внутренняя реализация этой программной модели. Для одной и той же архитектуры разными фирмами и в разных поколениях применяются существенно различные микроархитектурные реализации, при этом, естественно, стремятся к максимальному повышению производительности (скорости исполнения программ). Сейчас существует множество архитектур процессоров, которые делятся на две глобальные категории - RISC и CISC. RISC - Reduced (Restricted) Instruction Set Computer - процессоры (компьютеры) с сокращенной системой коман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и процессоры обычно имеют набор однородных регистров универсального назначения, причем их число может быть большим. Система команд отличается относительной простотой, коды инструкций имеют четкую структуру, как правило, с фиксированной длиной. В результате аппаратная реализация такой архитектуры позволяет с небольшими затратами декодировать и выполнять эти инструкции за минимальное (в пределе 1) число тактов синхронизации. Определенные преимущества дает и унификация регистров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ISC - Complete Instruction Set Computer - процессоры (компьютеры) с полным набором инструкций, к которым относится и семейство х86. Состав и назначение их регистров существенно неоднородны, широкий набор команд усложняет декодирование инструкций, на что расходуются аппаратные ресурсы. Возрастает число тактов, необходимое для выполнения инструкций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оры х86 имеют самую сложную в мире систему команд. Хорошо ли это, вопрос спорный, но груз совместимости с программным обеспечением для IBM PC, имеющим уже 20-летнюю историю, не позволяет расставаться с этим "наследием тяжелого прошлого". В процессорах семейства х86, начиная с 486, применяется комбинированная архитектура - CISC-процессор имеет RISC-ядр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личают следующие способы организации вычислительного процесс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 поток команд - один поток данных (Simple Instruction - Simple Data, SISD) - характерно для традиционной фон-неймановской архитектуры (иногда вместо Simple пишут Singl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 поток команд - множественный поток данных (Simple Instruction - Multiple Data, SIMD) - технология MM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жественный поток команд - один поток данных (Multiple Instruction - Simple Data, MISD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жественный поток команд - множественный поток данных (Multiple Instruction - Multiple Data, MIMD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8-РАЗРЯДНЫЙ МИКРОПРОЦЕССОР </a:t>
            </a:r>
            <a:r>
              <a:rPr b="1" lang="en-US" sz="2200" spc="-1" strike="noStrike">
                <a:solidFill>
                  <a:srgbClr val="04617b"/>
                </a:solidFill>
                <a:latin typeface="Arial"/>
              </a:rPr>
              <a:t>I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8080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59984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  Рис. 9.1 представлена внутренняя структура МП i8080, включающего в себя 8-разрядное АЛУ с буферным регистром и схемой десятичной коррекции, блок РОН, регистры указателя стека SP и счетчика команд PC, первичный управляющий автомат УА, буферные схемы шин адреса и данных и схему управления систе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шний интерфейс представлен 8-разрядной двунаправленной шиной данных D[7:0], 16-разрядной шиной адреса A[15:0] и группой линий  управления. Назначение входных и выходных линий МП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[7:0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вунаправленная шина данных служит для приема и выдачи данных, приема команды, приема вектора прерывания, выдачи дополнительной управляющей информации (слово PSW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A[15:0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однонаправленная шина адреса служит для выдачи адреса памяти и устройств ввода/выво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1,Ф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игналы тактового генератора частотой 1..2,5 МГц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i8080"/>
          <p:cNvPicPr/>
          <p:nvPr/>
        </p:nvPicPr>
        <p:blipFill>
          <a:blip r:embed="rId1"/>
          <a:stretch/>
        </p:blipFill>
        <p:spPr>
          <a:xfrm>
            <a:off x="428760" y="214200"/>
            <a:ext cx="6643440" cy="5835600"/>
          </a:xfrm>
          <a:prstGeom prst="rect">
            <a:avLst/>
          </a:prstGeom>
          <a:ln w="0">
            <a:noFill/>
          </a:ln>
        </p:spPr>
      </p:pic>
      <p:sp>
        <p:nvSpPr>
          <p:cNvPr id="314" name="TextBox 4"/>
          <p:cNvSpPr/>
          <p:nvPr/>
        </p:nvSpPr>
        <p:spPr>
          <a:xfrm>
            <a:off x="3366360" y="62866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унок 9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6840" y="357120"/>
            <a:ext cx="74674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брос (начальная установка и запуск программы с адреса 000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AD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ходной сигнал готовности памяти или ВУ к обмену (обеспечивает асинхронный режим обмена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апрос внешнего преры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ахват шины (требование прямого доступа в память со стороны ВУ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W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апись - выходной сигнал, определяющий направление передачи информации по шине данных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процессора к памя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В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чтение - выходной сигнал, определяющий направление передачи информации по шине данных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памяти или ВУ к процессор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YN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идентифицирующий наличие на шине данных дополнительной управляющей информации (PSW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отмечающий состояние ожидания или останова МП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T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подтверждающий режим внешних прерыв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LD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подтверждающий режим прямого доступа в память (подтверждение захват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КОМАНДНЫЙ ЦИКЛ МИКРОПРОЦЕССОРА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П работает в составе МПС, обмениваясь информацией с памятью и ВУ. В основе работы МП лежит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мандный цик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ействия по выбору из памяти и выполнению одной команды. В зависимости от типа и формата команды, способов адресации и числа операндов командный цикл может включать в себя различное число обращений к памяти и ВУ и следовательно - иметь различную дли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юбой командный цикл (КЦ) начинается с извлечения из памяти первого байта команды по адресу, хранящемуся в PC, что команды i8080 имеют длину 1, 2 или 3 байта, причем в первом байте содержится информация о длине команды. В случае 2- или 3-байтовой команды реализуются дополнительные обращения к памяти по соседним (большим) адреса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считывания команды начинается ее выполнение, причем в процессе выполнения может потребоваться еще одно или несколько обращений к памяти или ВУ (чтение операнда, запись результата)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реализации команды i8080 может потребоваться от 1 до 5 обращений к памяти (ВУ). Хотя обращения к ЗУ/ВУ располагаются в разных частях КЦ, выполняются они по единым правилам, соответствующим интерфейсу МПС и реализованы на общем оборудовании управляющего автомата. Действия МПС по передаче в/из МП одного байта данных/команды называются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ашинным цикл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МАШИННЫЕ ЦИКЛЫ И ИХ ИДЕНТИФИКАЦИЯ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ный цикл представляет собой последовательность машинных циклов (МЦ), причем КЦ i8080 может содержать от 1 до 5 МЦ, которые принято обозначать M1, M2,..M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Ц обязательно включает в себя действия по передаче байта информации. Кроме того, в некоторых МЦ дополнительно реализуются действия по пересылке и/или преобразованию информации внутри МП. Поэтому длительность МЦ может быть различной - за счет различного числа содержащихся в них машинных тактов (T1, T2,..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шинный такт (такт) образует пара сигналов тактового генератора Ф1, Ф2, поэтому длительность такта постоянна - период тактового генератора (за исключением такта Tw - см. ниж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 образом, просматривается иерархия процедур при работе микропроцессора (не только i8080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омандный цикл - Машинный цикл - Машинный та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i="1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ждому такту соответствует определенное состояние управляющего автомата. Любой МЦ i8080 обязательно содержит такты T1, T2, T3, предназначенные для передачи байта по интерфейсу. МЦ, в которых осуществляется передача и/или преобразование информации в МП, содержат дополнительно один или два такта T4, T5. МП i8080 вырабатывает несколько типов МЦ, основными из которых являются циклы ПРИЕМ и ВЫД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2:31:08Z</dcterms:created>
  <dc:creator>Evgeniy</dc:creator>
  <dc:description/>
  <dc:language>en-US</dc:language>
  <cp:lastModifiedBy>Сивченко</cp:lastModifiedBy>
  <dcterms:modified xsi:type="dcterms:W3CDTF">2009-06-16T23:08:11Z</dcterms:modified>
  <cp:revision>21</cp:revision>
  <dc:subject/>
  <dc:title>Микропроцессоры и микроконтроллеры </dc:title>
</cp:coreProperties>
</file>